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E425BA-9622-492F-8273-10B3D98C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F37-0507-4ED2-9B9D-FC8485A7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9D0-2529-4590-8B0E-6C2D9E9F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51D-C20D-41B4-8299-DDD7252C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E02-ECAE-43FB-94AE-48D12674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B03D-4564-4E8A-8C20-780372B0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FF0-E9C3-4A72-A279-8455228C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E55-A89E-49EE-960B-570F86A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B150-5467-4DA6-97C0-D89DD32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5229-C459-4D1D-8DA5-ADE6E2C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8B10-540F-4F7C-97E1-10776B6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794-0888-4864-A9FF-5273411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BAA-9DC0-44C7-B701-83E904C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0924-A5D6-456F-B2D3-3185A02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199-B720-45BF-B1F8-26860229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4C5-C889-453E-93C1-F97E39E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886-7593-4A52-8BB0-B148C6EC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F59B-AC06-4B24-8B42-CC547010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A83-452E-4E88-B812-60981B2F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DD7-F5B4-4A4D-8586-B8664FF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B78-2834-4828-92A6-A835DB47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5B9-31A2-453E-95B2-EC36ABC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BD6-67D9-44B5-A641-7C79DCB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CF0-555D-4BDC-8697-F5AE730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F47-C09A-4687-8E4F-B6EB72C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85D-AD6B-45A2-B2B9-E209A7FD03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alphaModFix amt="61000"/>
          </a:blip>
          <a:stretch/>
        </p:blipFill>
        <p:spPr>
          <a:xfrm>
            <a:off x="7699320" y="4648320"/>
            <a:ext cx="121608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AF14-4AAE-4E8F-8332-5D26675CDA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64040" y="1219320"/>
            <a:ext cx="28558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Bank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2203560"/>
            <a:ext cx="6629400" cy="3587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6 with $12.5M total to live with over 25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2: Entrepreneu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5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Dual Income = 50% incremental income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Neutral Investor Style = 8% mean return; 10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Average Expense Style = 10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Suburbs = 5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14400"/>
            <a:ext cx="8076960" cy="1600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aspiring entrepreneur living off his/her working spouse in the suburbs, average spending habits and risk-neutral lifestyle ($20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ntrepreneu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4; 70% chance of buyout after 36 years; mean retirement amount of $12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1722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3: Market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95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Single Income = no incremental income effect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Averse Investor Style = 4% mean return; 1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Thrifty Expense Style = 1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Country = 10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14400"/>
            <a:ext cx="8076960" cy="1752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8000"/>
          </a:bodyPr>
          <a:p>
            <a:pPr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country-dwelling marketer supporting his/her stay-at-home spouse, with thrifty spending habits and risk-averse lifestyle ($15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arket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60 with $2.7M total to live with over 20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553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What to Remember About </a:t>
            </a:r>
            <a:r>
              <a:rPr b="0" lang="en-US" sz="3900" spc="-1" strike="noStrike">
                <a:solidFill>
                  <a:srgbClr val="ffffcc"/>
                </a:solidFill>
                <a:latin typeface="Book Antiqua"/>
              </a:rPr>
              <a:t>This</a:t>
            </a: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 Model...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actuality…the model provides a realistic tool for retirement plan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mply plug in more events and with more realistic odds…BAM…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your future is predic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Book Antiqua"/>
              </a:rPr>
              <a:t>Zoltar is No J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He’s planning to apply to Merrill Lynch as a financial plann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5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h Flow calcul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ense ratio, savings contribution, investment return, PV of retirement monies, year of retir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sitivity Analysis (impacts of changes to parameter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ystal Ball assumptions and forecasts (distributions, mean and standard deviation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Looku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line salary based on prof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ense ratio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ital status, expense style, and where you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vings growth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estment sty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is a normally distributed random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averse: mean = 4%; standard deviation = 1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neutral: mean = 8%; standard deviation = 10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y: mean = 17%; standard deviation = 35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ig”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ject Overvie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Zoltar Predicts for the Cl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del Mechanic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ng-term Stats for 3 Classic Profi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keaw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rystal Ball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ath Age assumes normal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an = 75; Standard Deviation = 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ge of event occurrence assumes discrete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current age; Max = 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ability of event occurring assumes continuous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0; Max =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Some Extras We Incorporated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sual Bas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ject Overview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004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learn the age when you can retire and the amount of money you will have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Zoltar will take into account your current lifestyle profile as well as the randomness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171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Zoltar Will Tell You About Your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Let Zoltar Predict Your Future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819160"/>
            <a:ext cx="3581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</a:rPr>
              <a:t>Take your turn…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txBody>
          <a:bodyPr lIns="45720" rIns="45720" tIns="46800" bIns="46800" anchor="ctr" anchorCtr="1">
            <a:normAutofit fontScale="92000"/>
          </a:bodyPr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BA students are making decisions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Book Antiqua"/>
              </a:rPr>
              <a:t>that will shape their future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How will these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decision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 impact their retirement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What about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unplanned event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35268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things you can contro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rital status, investment style, spending habits, career choice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me things you ca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dom events include things like winning the lottery, getting bitten by a shark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How Model Addresses Problem</a:t>
            </a:r>
            <a:br>
              <a:rPr sz="3200"/>
            </a:b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</a:rPr>
              <a:t>31,500 ft View)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ceive User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ranslate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ter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shf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nerate Random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annel Zoltar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areer Cho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pending Hab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Where to L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Go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nnual salary &amp; grow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vings contrib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Retur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pense Rat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on-random parameters yield lifetime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deled via Ex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brary of 33 Random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ach with distinct probability &amp; imp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ither one-time or life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mpacts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ffected by Crystal B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2590920"/>
            <a:ext cx="1447920" cy="19047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Zoltar predict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I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ney at Retir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fe’s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0" idx="3"/>
            <a:endCxn id="111" idx="1"/>
          </p:cNvCxnSpPr>
          <p:nvPr/>
        </p:nvCxnSpPr>
        <p:spPr>
          <a:xfrm>
            <a:off x="17521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1" idx="3"/>
            <a:endCxn id="112" idx="1"/>
          </p:cNvCxnSpPr>
          <p:nvPr/>
        </p:nvCxnSpPr>
        <p:spPr>
          <a:xfrm>
            <a:off x="3505320" y="2018880"/>
            <a:ext cx="3052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2" idx="3"/>
            <a:endCxn id="113" idx="1"/>
          </p:cNvCxnSpPr>
          <p:nvPr/>
        </p:nvCxnSpPr>
        <p:spPr>
          <a:xfrm>
            <a:off x="525744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3" idx="3"/>
            <a:endCxn id="114" idx="1"/>
          </p:cNvCxnSpPr>
          <p:nvPr/>
        </p:nvCxnSpPr>
        <p:spPr>
          <a:xfrm>
            <a:off x="70099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eek Into the 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5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47242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2096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77058E-007 C 0.05816 -0.08164 0.11667 -0.16304 0.11667 -0.2241 C 0.11667 -0.28515 0.0191 -0.34343 -3.33333E-006 -0.36679 E">
                                      <p:cBhvr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47 L 0.45 -0.00047 E">
                                      <p:cBhvr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vent Generator via Crystal Ball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3560" cy="536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0" y="1905120"/>
            <a:ext cx="228600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541008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1: Bank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20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ingle = No incremental income or expense effec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y Investor Style = 17% mean return; 35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High Roller = Only 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Locale = No incremental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990720"/>
            <a:ext cx="8001000" cy="1371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6000"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ngle 28 year-old living in NYC with dreams to retire enough savings to spend at least $500K per yea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11:51Z</dcterms:created>
  <dc:creator>Whitney Chamberlain</dc:creator>
  <dc:description/>
  <dc:language>en-US</dc:language>
  <cp:lastModifiedBy>Bill Kenworthy</cp:lastModifiedBy>
  <dcterms:modified xsi:type="dcterms:W3CDTF">2007-12-03T03:21:10Z</dcterms:modified>
  <cp:revision>56</cp:revision>
  <dc:subject/>
  <dc:title>Zoltar Knows Your Future</dc:title>
</cp:coreProperties>
</file>